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2.gif" ContentType="image/gif"/>
  <Override PartName="/ppt/media/image8.wmf" ContentType="image/x-wmf"/>
  <Override PartName="/ppt/media/image7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.gif" ContentType="image/gif"/>
  <Override PartName="/ppt/media/image4.wmf" ContentType="image/x-wmf"/>
  <Override PartName="/ppt/media/image10.png" ContentType="image/png"/>
  <Override PartName="/ppt/media/image5.wmf" ContentType="image/x-wmf"/>
  <Override PartName="/ppt/media/image3.gif" ContentType="image/gif"/>
  <Override PartName="/ppt/media/image14.wmf" ContentType="image/x-wmf"/>
  <Override PartName="/ppt/media/image6.gif" ContentType="image/gif"/>
  <Override PartName="/ppt/media/image9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B76-7570-4FF6-9BF6-781ECCF2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4C1-476B-4DD3-BEFB-45070B94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449-E699-4379-AC8C-22CE9855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E1A-F1A3-48AF-A977-1993A8F4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642-C498-4FD5-9FF7-80041770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947-3CE9-4D44-AE77-E6544475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EE7-9029-4E89-B78B-58E5FFDA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8E4-79FC-45A4-9E6E-AFAA930D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A33-7FAA-4DC5-900E-78B9D6BC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749-BB6D-4F2B-9681-C859D8A1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346-7065-4430-B1AC-ECE6A589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9C1-BCD6-496C-B78B-E65FA379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CDAD-E118-41AF-9E9B-B724C91EB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dia Ei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69560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5029200"/>
            <a:ext cx="1685880" cy="126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19320" y="838080"/>
            <a:ext cx="1981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jogge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 funfzehn minuten am Dienstag und Sams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887480" cy="234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27511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esse einen Apfel, M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öhren und die Bananen weil ich gesund bleib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3044880" cy="224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1554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trinke Wasser jeden tag und ich trinke nicht Cola denn ich fit hal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144756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33920" y="3809880"/>
            <a:ext cx="22208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idi Marie rauchen am Mittwoch und es ist nicht gut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 deine Gesund.  Ich rauche ni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9246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995480" cy="1995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28800" y="3657600"/>
            <a:ext cx="19051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li essen Obst und G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jeden tag und sie Gymnastik ma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2163960" cy="244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1752480"/>
            <a:ext cx="1730160" cy="129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1809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darf Salat essen.  Ich mache Salat fur meine Familie jede woch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darf nicht trinken Alkohol. Ich trinke Alkohol wenn ich bin 21 jahr al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25876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22:07Z</dcterms:created>
  <dc:creator>CUSD220</dc:creator>
  <dc:description/>
  <dc:language>en-US</dc:language>
  <cp:lastModifiedBy>CUSD220</cp:lastModifiedBy>
  <dcterms:modified xsi:type="dcterms:W3CDTF">2012-02-24T18:25:20Z</dcterms:modified>
  <cp:revision>3</cp:revision>
  <dc:subject/>
  <dc:title>Gesund Leben</dc:title>
</cp:coreProperties>
</file>